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B95D-0E38-47D3-9F2F-BC7096B04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24FA-C5D5-4ADE-8F03-2541CBA36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CFBB-7A6B-4D00-A3EA-02F12C712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61EB-EF01-4FFF-B1CA-C9BE2B07E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2F05-97D2-46DA-9741-7BD148E06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C198-8C9C-4B58-ADDC-7AA7EEEB1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9D7A-E86D-493D-B1FA-CBEC12EC5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620D-D1F4-4908-ABE1-6AFAA7A8C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2DF4-9717-4D23-AA4B-203F29F90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7784-A97B-4288-94FE-278601FB6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7A4B-5123-496F-9A96-A89461FA2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A109A-F8C7-41F3-99D4-5635238D4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C88B1-1662-46C7-B7D1-F345C742A1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évision des verb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 prés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Nous, par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Tu, fin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Ils, attend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Vous, s’asseo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Monique, nettoy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 Je, se maquil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 Il, étiend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 Nous, ouvr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prés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Nous parl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Tu fin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Ils attend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Vous vous asseye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Monique netto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 Je me maquil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 Il éte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 Nous ouvr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’imparfa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Nous, êt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Tu, ai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Vous, se repo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Elles, pe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Il, vend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 Je, avo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 Elle, na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 Ils, bo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’imparfa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Nous é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Tu aima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Vous vous reposie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Elles pesa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Il venda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 J’ava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 Elle nagea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 Ils buvai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passé compos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Vous, s’asseso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Nous, al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Tu, étud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Je, chois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Elle, vend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 Ils, sort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 Elles, ouvr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 Nous, devo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passé compos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Vous vous êtes as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Nous sommes all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Tu as étudi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J’ai choi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Elle est ven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 Ils sont sort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. Elles ont ouve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 Nous avons 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arfait ou passé compos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Nous, jou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Vous, part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Il, fa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Je, man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Elles, prend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 Vous, ven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arfait et passé compos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Nous jouions, nous avons jou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Vous partiez, vous êtes parti(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Il faisait, il a fa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Je mangeais, j’ai mang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Elles prenait, elle a pr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 Vous veniez, vous êtes venu(-) (e) (s) (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30T14:13:20Z</dcterms:created>
  <dc:creator>pnosbusch</dc:creator>
  <dc:description/>
  <dc:language>en-US</dc:language>
  <cp:lastModifiedBy>nbarthenheier</cp:lastModifiedBy>
  <dcterms:modified xsi:type="dcterms:W3CDTF">2009-06-03T21:57:24Z</dcterms:modified>
  <cp:revision>20</cp:revision>
  <dc:subject/>
  <dc:title>Révision des verbes</dc:title>
</cp:coreProperties>
</file>